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EC6-338B-4BC4-A4EF-84DFA77E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2FF-18F3-4D65-BCE7-2F21A2A0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1A6-054D-4E4C-9DCE-E1BD5FD1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EF5-C885-46EC-BB51-1E2B545D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9F6-8B5B-4225-A326-07D92486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F9F4-B732-4397-964D-4B780BB9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37F-52BE-4F33-BB6A-C8CD186F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29DD-9DE9-4153-8CF9-6C7334F9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63E-E433-4944-B1E3-12437798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C04-C5BA-4741-B359-85FCCE66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FB1-FA08-4C9A-9673-1B533523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0FC-173A-4E02-A261-3974B0C8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BABC-98A5-43F1-A4AC-9D7C8CA57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 Narrow"/>
              </a:rPr>
              <a:t>Wisdom of God (SLD-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isdom of Go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Word made flesh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have mercy on 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Jesus, Liberator of crea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Arial"/>
              </a:rPr>
              <a:t>grant us pe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2:54:49Z</dcterms:created>
  <dc:creator>Anon Anon</dc:creator>
  <dc:description/>
  <dc:language>en-US</dc:language>
  <cp:lastModifiedBy>Anon Anon</cp:lastModifiedBy>
  <dcterms:modified xsi:type="dcterms:W3CDTF">2005-08-09T05:00:58Z</dcterms:modified>
  <cp:revision>8</cp:revision>
  <dc:subject/>
  <dc:title>Wisdom of God (SLD-2)</dc:title>
</cp:coreProperties>
</file>